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6CD-74F5-46F1-AD40-7F5A0626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691-E23F-4F40-8A5E-28CD4A8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B8C-F364-43E2-87FE-E2C86D5E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A97-23DB-4292-AB66-8C3EF12D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A6A2-7399-4056-ACE5-A1032AF9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EF3F-0EF5-4FD4-A78C-4E3BC4ED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8E5A-A23D-4090-B00B-1F52E50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C16E-17DF-46FB-A5F9-31B4D4A8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BB3D-5A68-4807-9204-2F6D4C56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AB5D-2792-4846-B7B8-7242F3AB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A17E-0038-4356-978E-4CE33E52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66B-5E1C-45AC-A88F-465EA707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4E97-D4D1-4715-B82C-F330098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2C18-36B6-4E1F-AD80-276ADF2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5A66-0C40-42D3-809A-865648C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661-8B08-4B45-BA10-D051E535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6B9D-AF4B-463A-AADE-6E378515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99C-6E62-493E-84E4-744EDAF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57D-6801-4431-A504-60B576A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F74-D896-4986-8025-C3C9E69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EDE-2917-4FED-BC38-CAF1BA8D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FB6-BE70-4E59-93BA-5871BA59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576-37FE-4EE8-B327-B2C8AD6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5BE-ADDA-40A2-BFF3-693CFB83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2C4-1115-4B5B-9585-C8E96CEAA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CA7F-2229-4777-9944-BA50860BC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72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dvance Voter Registration: A “Nudge” Toward Particip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0512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Richi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Director, FairV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. Bill Nelson’s Federal Bi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3100 - Conduct of Elections Act of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501 Would provide state grants of up to $500,000 to facilitate advanc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to build support this year and move legislation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ng-Term Benefits: “Nudg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4, 81% of registered 18-24-year-olds voted and 88% of all registered v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studies show that voting behavior is habit-forming. If you vote, you will likely keep voting. If you don’t vote, you probably won’t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mentary Proposals: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icies Anticipating Particip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r education / mechanics programs in schools – FairVote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rning Democ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ing youth as pollworkers and tech aid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voter registration in schools &amp; at DMV and automatic updating of addres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financed voter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airVo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R@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01) 270-4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kground on FairVo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es, develops and promotes innovative reform policies. Board includes John Anderson, chair Krist Novose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ew “Democracy SoS”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policy proposal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Popular Vot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ThePrimaries.com / The America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Runoff Voting / Ranked Choice V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Voter Registration/Advance Regist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516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Voter Registration: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t 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746784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 at 18, but get registered at 16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niform “pre-registration” age that simplifies messaging in outreach to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ation becomes active when reach voting age: Voter card and “welcome” m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s secure registration in institutional settings like schools and DM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, Florida, Puerto R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orida’s Law in 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ion leaders hope the change will boost enrollment of young voters. Partnerships with the school district already have a huge impact. ‘’In May, we get 10,000 to 13,000 high school seniors registered,‘’ said Miami-Dade Elections Supervisor Lester Sola….’We're trying to target all the demographics by interacting with them in a way that they're accustomed to, and MySpace is a perfect example.’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Voter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-up dri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rgets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16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ear-o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ld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Miami Herald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, July 22: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wnsides of Lack of Uniform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,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ll 17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-olds and some 16-year-olds can register, but only in od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ther states, no 17-year-olds can register in odd years and only some in even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registration age changes daily based on date of the next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ity creates confusion and undercuts effective voter ed programs in schools and at the D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stions: Why Age Sixtee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pplying for a driver’s license or permit at the DMV, a 16-year-old can now register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udents leave school when 16. In most states, 16 is the compulsory school attendanc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 already allow do pre-registration for some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.5 million 16-year-olds, most of whom will be eligible to vote at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Not Just Existing High School Outreach Program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are good,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o not focus on anyone other than sen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r rates in presidential years, but fewer young people can register in those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of standardize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curriculum could would encourage students to learn about the mechanics of participation – requesting absentee ballot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es Policy Have Cost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 advance registration does not require a new registration database system – only a one-time small change and a change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advance-registered voters already are put into database as “pending.” State board transfers “pending” voters to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“activ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y become eligible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otential costs when mailed voter cards are rejected, but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Registration in Sta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 since 1990s – about 17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rida expanded its pre-registration policy to uniform age of 16 in 2008 – about 240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de Island may enact this year – impressive coalition i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s in Michigan and California have passed one house. Bill in Maryland passed 2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20:01:30Z</dcterms:created>
  <dc:creator> </dc:creator>
  <dc:description/>
  <dc:language>en-US</dc:language>
  <cp:lastModifiedBy>rr</cp:lastModifiedBy>
  <dcterms:modified xsi:type="dcterms:W3CDTF">2008-07-26T19:10:55Z</dcterms:modified>
  <cp:revision>60</cp:revision>
  <dc:subject/>
  <dc:title>PowerPoint Presentation</dc:title>
</cp:coreProperties>
</file>