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61B-87AF-4560-BFF5-F8521F17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10E-AE2E-46DA-AEB7-736677D4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88D-1082-43A2-8963-14C3710D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4B1-05E9-4EE8-A625-153F3068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EA69-7205-47D8-9AAA-0706F228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CA5E-93F1-4865-B50E-57868546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CAA7-8431-4616-BD66-1A8D439B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67CF-B12E-4722-900C-96AFF401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5D4E-F140-40F8-BD1D-A5ECD5AF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C905-866D-401D-BFDB-CCEBE827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7F54-B5FA-4307-A5FC-EF07A771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DEB-23D2-408E-B602-96D87C2D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CAF1-AF61-426B-86AB-BFFAC8DB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434F-3BF1-4572-982B-E26290B4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B58C-18EF-4FB3-8ECE-854346F1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A810-F660-4C3C-B9F7-3A0108F5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6A3A-46C7-49E9-816B-56018620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505-37F2-42AF-BFD0-B64F2806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094-BBB2-4C33-B5C1-A69851AE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91F-0C8E-46F1-92D5-8D8A8A24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1C0-3518-4AC8-ACCB-6732BF8B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AA6-A3A8-4B03-8DA0-DE2D971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3D2-2EF9-40B6-9BB7-3DCF10E0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CD7-4E56-4D9D-AA02-BCA9185B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2074-72FE-4843-85EA-0B6798AFF5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0C1A-070F-44C6-86E1-E90FEE3ADE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72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dvance Voter Registration: A “Nudge” Toward Particip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905120"/>
            <a:ext cx="74678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 Richi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Director, FairV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fairvote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. Bill Nelson’s Federal Bi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3100 - Conduct of Elections Act of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 501 Would provide state grants of up to $500,000 to facilitate advance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 to build support this year and move legislation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ng-Term Benefits: “Nudge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004, 81% of registered 18-24-year-olds voted and 88% of all registered v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studies show that voting behavior is habit-forming. If you vote, you will likely keep voting. If you don’t vote, you probably won’t 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plementary Proposals: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icies Anticipating Particip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r education / mechanics programs in schools – FairVote’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rning Democ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ring youth as pollworkers and tech aid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voter registration in schools &amp; at DMV and automatic updating of address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-financed voter gu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airVo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R@fairvot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01) 270-46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fairvot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ckground on FairVo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es, develops and promotes innovative reform policies. Board includes John Anderson, chair Krist Novose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new “Democracy SoS”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ture policy proposal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Popular Vot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ThePrimaries.com / The America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Runoff Voting / Ranked Choice Vo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Voter Registration/Advance Registr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516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vance Voter Registration: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t 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676520"/>
            <a:ext cx="746784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 at 18, but get registered at 16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niform “pre-registration” age that simplifies messaging in outreach to 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ration becomes active when reach voting age: Voter card and “welcome” mai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s secure registration in institutional settings like schools and DMV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in Hawaii, Florida, Puerto R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orida’s Law in A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ion leaders hope the change will boost enrollment of young voters. Partnerships with the school district already have a huge impact. ‘’In May, we get 10,000 to 13,000 high school seniors registered,‘’ said Miami-Dade Elections Supervisor Lester Sola….’We're trying to target all the demographics by interacting with them in a way that they're accustomed to, and MySpace is a perfect example.’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Voter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-up driv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rgets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16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ear-o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ld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Miami Herald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, July 22:</a:t>
            </a: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wnsides of Lack of Uniform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tes,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all 17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-olds and some 16-year-olds can register, but only in od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ther states, no 17-year-olds can register in odd years and only some in even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states, registration age changes daily based on date of the next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ity creates confusion and undercuts effective voter ed programs in schools and at the D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estions: Why Age Sixtee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pplying for a driver’s license or permit at the DMV, a 16-year-old can now register to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udents leave school when 16. In most states, 16 is the compulsory school attendance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tes already allow do pre-registration for some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4.5 million 16-year-olds, most of whom will be eligible to vote at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Not Just Existing High School Outreach Program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gistration drives are good, b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o not focus on anyone other than sen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gistration drives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r rates in presidential years, but fewer young people can register in those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 of standardize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ing curriculum could would encourage students to learn about the mechanics of participation – requesting absentee ballots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es Policy Have Cost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 advance registration does not require a new registration database system – only a one-time small change and a change i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states, advance-registered voters already are put into database as “pending.” State board transfers “pending” voters to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“activ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y become eligible to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potential costs when mailed voter cards are rejected, but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vance Registration in Sta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in Hawaii since 1990s – about 17,000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rida expanded its pre-registration policy to uniform age of 16 in 2008 – about 240,000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ode Island may enact this year – impressive coalition i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s in Michigan and California have passed one house. Bill in Maryland passed 2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20:01:30Z</dcterms:created>
  <dc:creator> </dc:creator>
  <dc:description/>
  <dc:language>en-US</dc:language>
  <cp:lastModifiedBy>rr</cp:lastModifiedBy>
  <dcterms:modified xsi:type="dcterms:W3CDTF">2008-07-26T19:10:55Z</dcterms:modified>
  <cp:revision>60</cp:revision>
  <dc:subject/>
  <dc:title>PowerPoint Presentation</dc:title>
</cp:coreProperties>
</file>