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D080-6222-4634-9103-B6BB40C04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4D18-E927-411A-AC94-B16AC68B8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4D97-2728-4635-9E5B-1D0F0AA3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315A-4527-4027-8CD6-2B2643FFC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6B9BC-B595-4C71-ABC0-DCE651BD0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D1CCA-0389-45D0-99A1-911084C54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C037-48B9-4AA6-982E-FA0ADC2AE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3FD4D-C113-478C-96A1-1854F8A53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8E216-428E-4E62-A1C0-4F7BEE3D9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D4E83-20D5-443A-ADDA-7A27AB11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CC75-DCAF-455A-B779-7EB5DCE5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04E2-2EA5-47E6-8952-5BAF44CB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9D85D-FA74-48C4-B7FE-F86287B1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68B82-2C9A-4CED-8119-0437D3FBD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FCAE1-E3D1-4983-B521-CEE37966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9B1DB-B7BD-4AFF-BF14-E05669B9F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DE41-2299-4219-9AA5-4350264A0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92CE-2064-418C-88F0-A1E8A51FB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EFC-D1DA-4A4E-ABB9-0CD1187D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E5249-0ECE-4A56-A21F-CBBA90DD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1016-D534-482D-AF54-3BBDD715F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568E-E2EB-480F-AA33-108FE4D2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AE2-0C83-4ED7-9DD3-862E2275F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D557-D600-4A4F-8905-0348EB97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0926-DF5B-485B-B158-915A116E33B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2BF94-B654-432A-8E7B-96C5B27A76C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97236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 Black"/>
              </a:rPr>
              <a:t>Advance Voter Registration: A “Nudge” Toward Participatio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1905120"/>
            <a:ext cx="746784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b Richie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cutive Director, FairVo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n. Bill Nelson’s Federal Bil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3100 - Conduct of Elections Act of 2008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tion 501 Would provide state grants of up to $500,000 to facilitate advance regist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portunity to build support this year and move legislation in 200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Long-Term Benefits: “Nudge”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 2004, 81% of registered 18-24-year-olds voted and 88% of all registered vo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ademic studies show that voting behavior is habit-forming. If you vote, you will likely keep voting. If you don’t vote, you probably won’t sta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771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omplementary Proposals: </a:t>
            </a:r>
            <a:r>
              <a:rPr b="0" lang="en-US" sz="2800" spc="-1" strike="noStrike">
                <a:solidFill>
                  <a:srgbClr val="ffcc00"/>
                </a:solidFill>
                <a:latin typeface="Arial Black"/>
              </a:rPr>
              <a:t>Policies Anticipating Participation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r education / mechanics programs in schools – FairVote’s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Learning Democra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ring youth as pollworkers and tech aides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utomatic voter registration in schools &amp; at DMV and automatic updating of addresse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e-financed voter gu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FairVote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R@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301) 270-4616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ww.fairvote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6850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Background on FairVote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arches, develops and promotes innovative reform policies. Board includes John Anderson, chair Krist Novosel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ve new “Democracy SoS”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gnature policy proposals includ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ational Popular Vote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xThePrimaries.com / The American Pl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nt Runoff Voting / Ranked Choice Vo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al Voter Registration/Advance Registratio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3516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Voter Registration: 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at It i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1676520"/>
            <a:ext cx="7467840" cy="43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e at 18, but get registered at 16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uniform “pre-registration” age that simplifies messaging in outreach to youth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istration becomes active when reach voting age: Voter card and “welcome” mail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hances secure registration in institutional settings like schools and DMV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, Florida, Puerto R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lorida’s Law in Actio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ection leaders hope the change will boost enrollment of young voters. Partnerships with the school district already have a huge impact. ‘’In May, we get 10,000 to 13,000 high school seniors registered,‘’ said Miami-Dade Elections Supervisor Lester Sola….’We're trying to target all the demographics by interacting with them in a way that they're accustomed to, and MySpace is a perfect example.’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Voter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gn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-up drive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argets 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16-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year-o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ld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”</a:t>
            </a:r>
            <a:br>
              <a:rPr sz="2400"/>
            </a:b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Miami Herald</a:t>
            </a:r>
            <a:r>
              <a:rPr b="0" i="1" lang="fr-FR" sz="2400" spc="-1" strike="noStrike">
                <a:solidFill>
                  <a:srgbClr val="ffffff"/>
                </a:solidFill>
                <a:latin typeface="Arial"/>
              </a:rPr>
              <a:t>, July 22:</a:t>
            </a:r>
            <a:r>
              <a:rPr b="0" i="1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wnsides of Lack of Uniformity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,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all 17-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ear-olds and some 16-year-olds can register, but only in odd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other states, no 17-year-olds can register in odd years and only some in even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registration age changes daily based on date of the next elec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ck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of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ity creates confusion and undercuts effective voter ed programs in schools and at the DM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Questions: Why Age Sixteen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en applying for a driver’s license or permit at the DMV, a 16-year-old can now register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udents leave school when 16. In most states, 16 is the compulsory school attendance a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states already allow do pre-registration for some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bout 4.5 million 16-year-olds, most of whom will be eligible to vote at 18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46920"/>
            <a:ext cx="777240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Why Not Just Existing High School Outreach Program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are good, bu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ypically do not focus on anyone other than senio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Registration drives hav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higher rates in presidential years, but fewer young people can register in those yea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 of standardize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ting curriculum could would encourage students to learn about the mechanics of participation – requesting absentee ballots, et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Does Policy Have Cost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form advance registration does not require a new registration database system – only a one-time small change and a change in for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 many states, advance-registered voters already are put into database as “pending.” State board transfers “pending” voters to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 “active”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hen they become eligible to vo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e are potential costs when mailed voter cards are rejected, but lim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8920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Advance Registration in States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w in Hawaii since 1990s – about 17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lorida expanded its pre-registration policy to uniform age of 16 in 2008 – about 240,000 16-year-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hode Island may enact this year – impressive coalition in supp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ills in Michigan and California have passed one house. Bill in Maryland passed 2 house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5T20:01:30Z</dcterms:created>
  <dc:creator> </dc:creator>
  <dc:description/>
  <dc:language>en-US</dc:language>
  <cp:lastModifiedBy>rr</cp:lastModifiedBy>
  <dcterms:modified xsi:type="dcterms:W3CDTF">2008-07-26T19:10:55Z</dcterms:modified>
  <cp:revision>60</cp:revision>
  <dc:subject/>
  <dc:title>PowerPoint Presentation</dc:title>
</cp:coreProperties>
</file>