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06D-B108-4117-9769-3973E839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F50-5C4F-48A2-887E-9777465B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046-961D-475D-819B-65CED110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FE5-08D7-4806-84E1-C7E230E2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6825-E0D5-42B5-95B6-F26CD807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4C4A-047E-4EC7-B5B2-E53A8AFD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A10D-4A47-4B91-9648-A722E339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D3D1-D333-48DA-A770-3A41F67C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426C-7FCF-4F49-AA22-6F0D0E93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188F-3934-4F96-96BC-28B9C38B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7F8C-0CFE-4A8C-A2A1-BB28C923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14F-C189-4887-9502-1E10CB1A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7DE2-2672-426C-979B-067E51E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343C-ED5F-433F-A4E8-BDE31EE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6FBF-FAED-466B-B393-EE5CB1BA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578A-60D2-4004-969A-2F794411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7483-14C4-4177-9ED3-463F6A04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581-0B35-4857-8891-E388AA4B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EEA-B783-48CE-9A97-12BD253D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DD1-15AB-4B56-A68D-03AA0C46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33E-9D22-4463-BFE3-15748A08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363-DB2B-4F36-AAFF-E2C880F6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4EE-8F23-45FD-9985-D2130FD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FC2-6FC8-4552-A570-324A94C5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C9AD-E32D-4CBE-BDC5-27C20F3604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2ADC-6515-4DCF-A942-1A9443D533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72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dvance Voter Registration: A “Nudge” Toward Particip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905120"/>
            <a:ext cx="74678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 Richi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Director, FairV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fairvote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. Bill Nelson’s Federal Bi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3100 - Conduct of Elections Act of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 501 Would provide state grants of up to $500,000 to facilitate advanc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 to build support this year and move legislation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ng-Term Benefits: “Nudge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004, 81% of registered 18-24-year-olds voted and 88% of all registered v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studies show that voting behavior is habit-forming. If you vote, you will likely keep voting. If you don’t vote, you probably won’t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lementary Proposals: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icies Anticipating Particip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r education / mechanics programs in schools – FairVote’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rning Democ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ring youth as pollworkers and tech aid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voter registration in schools &amp; at DMV and automatic updating of address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-financed voter gu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airVo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R@fairvot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01) 270-46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fairvot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ckground on FairVo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es, develops and promotes innovative reform policies. Board includes John Anderson, chair Krist Novose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new “Democracy SoS”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 policy proposal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Popular Vot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ThePrimaries.com / The America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Runoff Voting / Ranked Choice Vo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Voter Registration/Advance Registr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516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vance Voter Registration: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t 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676520"/>
            <a:ext cx="746784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 at 18, but get registered at 16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niform “pre-registration” age that simplifies messaging in outreach to 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ration becomes active when reach voting age: Voter card and “welcome” mai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s secure registration in institutional settings like schools and DMV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in Hawaii, Florida, Puerto R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orida’s Law in 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ion leaders hope the change will boost enrollment of young voters. Partnerships with the school district already have a huge impact. ‘’In May, we get 10,000 to 13,000 high school seniors registered,‘’ said Miami-Dade Elections Supervisor Lester Sola….’We're trying to target all the demographics by interacting with them in a way that they're accustomed to, and MySpace is a perfect example.’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Voter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-up driv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rgets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16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ear-o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ld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Miami Herald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, July 22:</a:t>
            </a: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wnsides of Lack of Uniform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s,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all 17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-olds and some 16-year-olds can register, but only in od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ther states, no 17-year-olds can register in odd years and only some in even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states, registration age changes daily based on date of the next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ity creates confusion and undercuts effective voter ed programs in schools and at the D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estions: Why Age Sixtee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pplying for a driver’s license or permit at the DMV, a 16-year-old can now register 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udents leave school when 16. In most states, 16 is the compulsory school attendance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s already allow do pre-registration for some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4.5 million 16-year-olds, most of whom will be eligible to vote at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Not Just Existing High School Outreach Program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gistration drives are good, b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o not focus on anyone other than sen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gistration drives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r rates in presidential years, but fewer young people can register in those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 of standardize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ing curriculum could would encourage students to learn about the mechanics of participation – requesting absentee ballots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es Policy Have Cost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 advance registration does not require a new registration database system – only a one-time small change and a change i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states, advance-registered voters already are put into database as “pending.” State board transfers “pending” voters to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“activ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y become eligible 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potential costs when mailed voter cards are rejected, but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vance Registration in Sta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in Hawaii since 1990s – about 17,000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rida expanded its pre-registration policy to uniform age of 16 in 2008 – about 240,000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ode Island may enact this year – impressive coalition i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s in Michigan and California have passed one house. Bill in Maryland passed 2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20:01:30Z</dcterms:created>
  <dc:creator> </dc:creator>
  <dc:description/>
  <dc:language>en-US</dc:language>
  <cp:lastModifiedBy>rr</cp:lastModifiedBy>
  <dcterms:modified xsi:type="dcterms:W3CDTF">2008-07-26T19:10:55Z</dcterms:modified>
  <cp:revision>60</cp:revision>
  <dc:subject/>
  <dc:title>PowerPoint Presentation</dc:title>
</cp:coreProperties>
</file>