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32759A7-769E-4AE7-AC00-BD574F80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5E469C9-FDA4-4E2E-8420-174343F93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onsidered by full committee or go directly to the House floor.  The latter scenario seems more lik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F19FD77-14C7-4683-A3ED-B4A032170C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.S. Supreme Court recognized the state system of insurance regulation 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Paul v. Virginia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ided in 1869.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U.S. v. Southeastern Underwriters Associa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decided in 1944, the Court revisited the issue and held that the business of insurance was in fact interstate comme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cCarran Ferguson Act (1945), enacted in response to th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outh-Eastern Underwriter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, permits the states to act as the primary regulatory authority over the business of insurance, including the regulation or those who sell insuran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ADFC18D-8927-4D30-B146-3FD605BBED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tinction between insurance producers and insurance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3EFF-FC34-4BD3-8FE3-4E1D737F2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F7D4E-9C5A-4EB8-A085-5A0C9DC26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E5C5-B462-46DA-9A6C-F9BE7F99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8147-D4CC-44EF-86A4-95BA44FDA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7297A-F2FB-47A1-94E1-3E86CBF15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6B2B-A48B-4D49-ACFA-50D3CAB36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F313A-3330-49FF-B644-BF24C12D0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62340-03F9-482B-9516-01C698C24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4EA6E-6E28-442F-911D-CE19E87C8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A1F50-B047-41DE-8AED-655C956FF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BB74F-7F6A-4892-83F6-6260BAEE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D571-9773-46DD-8386-753DE269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5FA5C-5B28-441E-A059-D2366E11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D642E-3F34-4915-9E69-6F9A71481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44DA9-49B2-4A42-AF12-777AFD175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A9146-33F9-4559-AC9F-26EFA3C74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92903-30B3-4E99-AF99-3203EB413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EC54-2361-4D4F-9A8D-BDA7C8A2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6295-A291-402B-8C7B-47AE24E9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F3A0-9A8B-4C88-B929-513DA9B47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568E-D0E2-40F4-9DCB-2337A35D0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56E0-8DE8-424D-B90F-A5E2D4AB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6964-5116-4D50-A681-376F64E2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0608-ED37-4D8A-9BF7-DBB589FEF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71227-F401-4D0D-A1C9-09BE28967B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6FCC6-A2B0-414B-B3C1-E0CF3131A14B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SURANCE PRODUCER LICENSING and REGISTR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ay Noon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Couns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tional Association of Insurance Commission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UESTION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f you have questions about how the issue is handled in your state, get in touch with your state Insurance Commissioner, Director or Superinten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is the NAIC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National Association of Insurance Commissioners (NAIC) is the organization of insurance regulators from the 50 states, the District of Columbia and the five U.S. territories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R 561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roduced in March with broad bipartisan support and passed out of House Subcommittee in Jul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stablishes a federal entity for insurance producer licens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uld prohibit states from requiring non-resident insurance producers to register as foreign corporation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te Insurance Regulation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egal Framework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ramm Leach Bliley Act (GLBA), enacted in 1999, affirms McCarran Ferguson and the primacy of state regulation of insuranc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BA also established certain reciprocity and uniformity requirements that needed to be met by a majority of the states in order to avoid the preemption of state producer licensing law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rocity” means that when licensing nonresident individuals and entities, the states largely defer to the home State’s requirements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urance Producer Licens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dividuals or entities who sell, solicit or negotiate insurance (called insurance producers) are required to be licensed in the state where they are acting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urance producer licenses are awarded on both a resident and non-resident basi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surance Producer Licens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 the GLBA reciprocity requirements, a nonresident individual or entity should not be required to do anything bu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lete the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y the f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business entities, the producer trade associations challenge a foreign corporation registration requirement as a violation of reciprocity.  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 of State Reg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IC member surve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 states responded that they required verification of SOS registration as a prerequisite to issuance of an insurance licens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 those states that identified the requirement as one of statute, the statute is in general corporate law, not part of the insurance cod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cretary of State Registr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of our members have eliminated the prerequisite as a matter of process, or are pursuing the necessary statutory and/or regulatory chang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ose states, our members have worked with their respective Secretary of State to allow for electronic verification of status or other method of communic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dustry Position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presentatives of the insurance producer trade groups argue that corporate registration is not required at all because non-resident business entity insurance producers are not doing business in the non-resident state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presentatives of the insurance producer trade groups argue that corporate registration should not be required because of the extensive regulation by insurance departments that the entities are subject to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s includes designation of the insurance department as agent for service of proce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21:01:10Z</dcterms:created>
  <dc:creator>Naic</dc:creator>
  <dc:description/>
  <dc:language>en-US</dc:language>
  <cp:lastModifiedBy>Leslie Reynolds</cp:lastModifiedBy>
  <dcterms:modified xsi:type="dcterms:W3CDTF">2008-07-26T19:06:06Z</dcterms:modified>
  <cp:revision>8</cp:revision>
  <dc:subject/>
  <dc:title>Slide 1</dc:title>
</cp:coreProperties>
</file>