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54B7FF-C2EB-4005-88A4-EC5D643D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CB8A15-BD3B-456C-B0FD-6384DFAA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by full committee or go directly to the House floor.  The latter scenario seems more 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FB40B5-128A-4E99-B621-052A57E3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Supreme Court recognized the state system of insurance regulation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ul v. Virgini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in 1869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.S. v. Southeastern Underwriters Asso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ecided in 1944, the Court revisited the issue and held that the business of insurance was in fact interstate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cCarran Ferguson Act (1945), enacted in response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th-Eastern Underwri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, permits the states to act as the primary regulatory authority over the business of insurance, including the regulation or those who sell insu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593559-0739-484F-88D0-2F5245C2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nction between insurance producers and insurance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41A-A589-44DA-BC4E-DB3A43C8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745-2691-4446-A47D-91803340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2D1-E5BF-44D7-9F42-E1221C0B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954-1509-48B7-8F81-CE920FC7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D0FB-F9F0-42A0-B53F-AA9A8E08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94E2-128B-4F28-B320-B1A8CB1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5693-1D9B-4DF7-BC33-CABC62E3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F4FA-5C43-41EB-9FE9-2E695E46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161-4942-4261-90DD-1A620EC2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E42-BAD9-4FFE-B41A-AF10D5A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249-7AB6-49DD-97B6-9B33ED8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518-9460-43A8-A832-69E11A5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A4A5-664A-412F-B05A-D3C4E1A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4CAF-573D-4B8F-94D3-DF32BBAA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4E4C-576B-4194-9092-C96BAC1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165-039C-41C6-97A1-06C89BFE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AB20-680C-4DDE-BC6B-C9CF9CBE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679-F504-40AE-88A2-CD59098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923-76D6-492B-AF40-B3DCA870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1A3-42E3-4011-9607-E1E3F95C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781-17E3-48A1-B44C-3FE968A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320-DE67-4894-8B7A-56515F6C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291-985C-4538-9D08-028F33F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64F-1C79-4ED0-BBFF-8D76482A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AB45-7B96-4221-B190-A8CE14214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C680-3067-41DA-AB7B-4DD0F8DB15E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URANCE PRODUCER LICENSING and REGIST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 Noo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Couns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Association of Insurance Commiss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ave questions about how the issue is handled in your state, get in touch with your state Insurance Commissioner, Director or Superint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is the NAI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tional Association of Insurance Commissioners (NAIC) is the organization of insurance regulators from the 50 states, the District of Columbia and the five U.S. territo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R 561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d in March with broad bipartisan support and passed out of House Subcommittee in Ju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 a federal entity for insurance producer licen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uld prohibit states from requiring non-resident insurance producers to register as foreign corpo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Insurance Regulati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al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amm Leach Bliley Act (GLBA), enacted in 1999, affirms McCarran Ferguson and the primacy of state regulation of insur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BA also established certain reciprocity and uniformity requirements that needed to be met by a majority of the states in order to avoid the preemption of state producer licensing la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rocity” means that when licensing nonresident individuals and entities, the states largely defer to the home State’s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s or entities who sell, solicit or negotiate insurance (called insurance producers) are required to be licensed in the state where they are a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urance producer licenses are awarded on both a resident and non-resident ba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the GLBA reciprocity requirements, a nonresident individual or entity should not be required to do anything b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y the f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usiness entities, the producer trade associations challenge a foreign corporation registration requirement as a violation of reciprocity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IC member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 states responded that they required verification of SOS registration as a prerequisite to issuance of an insurance lice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ose states that identified the requirement as one of statute, the statute is in general corporate law, not part of the insurance co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f our members have eliminated the prerequisite as a matter of process, or are pursuing the necessary statutory and/or regulatory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ose states, our members have worked with their respective Secretary of State to allow for electronic verification of status or other method of communi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ustry Posi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is not required at all because non-resident business entity insurance producers are not doing business in the non-resident sta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should not be required because of the extensive regulation by insurance departments that the entities are subject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cludes designation of the insurance department as agent for service of proc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01:10Z</dcterms:created>
  <dc:creator>Naic</dc:creator>
  <dc:description/>
  <dc:language>en-US</dc:language>
  <cp:lastModifiedBy>Leslie Reynolds</cp:lastModifiedBy>
  <dcterms:modified xsi:type="dcterms:W3CDTF">2008-07-26T19:06:06Z</dcterms:modified>
  <cp:revision>8</cp:revision>
  <dc:subject/>
  <dc:title>Slide 1</dc:title>
</cp:coreProperties>
</file>