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CC229F-0F5D-49F6-A64A-83DA1BEDA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286744-41B8-4DF3-AB5E-FE1CB093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by full committee or go directly to the House floor.  The latter scenario seems more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B7170A-3201-4EE6-B6B5-E7884B1D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Supreme Court recognized the state system of insurance regulation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ul v. Virgini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in 1869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.S. v. Southeastern Underwriters Asso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ecided in 1944, the Court revisited the issue and held that the business of insurance was in fact interstate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cCarran Ferguson Act (1945), enacted in response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th-Eastern Underwri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, permits the states to act as the primary regulatory authority over the business of insurance, including the regulation or those who sell insu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7AC15A-CDCC-4B51-9B16-F8A34D93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nction between insurance producers and insurance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888-992D-4883-96F5-F1FE12B4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9B5-A38C-4866-8851-60CD822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3B8-3EAF-4926-9BA7-A9C8E7F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87A-BEA6-4AEC-BCEF-4D02C83B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1C36-DB30-436D-9172-3E5E9DD0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2335-5D4E-4B39-9697-5207CD6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923-06AD-4ACD-A5FE-A9F98755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5B84-EDA6-4FAB-8F1F-1B35E04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10D-DC35-48C0-96E2-C328793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3C3-3FC0-4040-8D0C-67C3BF2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127-3855-4861-84A9-18CF2EE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B54-5132-4288-A286-68900F1D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838-2A63-42BB-A7F8-45A250D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CBF-989A-4F29-BE08-A33D22B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18D9-49AB-4D8F-A16C-15AF3604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2F1C-15DA-4D8E-AB12-319107F0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E1DA-4736-46F7-AB90-CCB708B3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7E3-BADB-4AD6-8A98-E068F78C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8C6-0AAE-444D-B570-C6EF258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7A4-0989-4E06-A8AC-5773F5B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BAC-CAAD-48B3-8AC7-A012F5DC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3C0-65D7-406B-8EC8-3924975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3C4-C0A9-4064-834F-29AD704A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091-BF02-43AE-8550-0EFC25F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54F-7FE0-44A8-95AA-1FBF7A6F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F95-0F1E-42EA-B947-4D69F79E069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URANCE PRODUCER LICENSING and REGIST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 Noo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uns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ssociation of Insurance Commiss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ve questions about how the issue is handled in your state, get in touch with your state Insurance Commissioner, Director or Superint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the NAI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al Association of Insurance Commissioners (NAIC) is the organization of insurance regulators from the 50 states, the District of Columbia and the five U.S. territo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R 561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d in March with broad bipartisan support and passed out of House Subcommittee in Ju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a federal entity for insurance producer licen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prohibit states from requiring non-resident insurance producers to register as foreign corpo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Insurance Regulati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al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amm Leach Bliley Act (GLBA), enacted in 1999, affirms McCarran Ferguson and the primacy of state regulation of insu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BA also established certain reciprocity and uniformity requirements that needed to be met by a majority of the states in order to avoid the preemption of state producer licensing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rocity” means that when licensing nonresident individuals and entities, the states largely defer to the home State’s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s or entities who sell, solicit or negotiate insurance (called insurance producers) are required to be licensed in the state where they are a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urance producer licenses are awarded on both a resident and non-resident ba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the GLBA reciprocity requirements, a nonresident individual or entity should not be required to do anything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y the 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usiness entities, the producer trade associations challenge a foreign corporation registration requirement as a violation of reciprocit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IC member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 states responded that they required verification of SOS registration as a prerequisite to issuance of an insurance lic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ose states that identified the requirement as one of statute, the statute is in general corporate law, not part of the insurance co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f our members have eliminated the prerequisite as a matter of process, or are pursuing the necessary statutory and/or regulatory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ose states, our members have worked with their respective Secretary of State to allow for electronic verification of status or other method of commun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Pos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is not required at all because non-resident business entity insurance producers are not doing business in the non-resident sta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should not be required because of the extensive regulation by insurance departments that the entities are subject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cludes designation of the insurance department as agent for service of proc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01:10Z</dcterms:created>
  <dc:creator>Naic</dc:creator>
  <dc:description/>
  <dc:language>en-US</dc:language>
  <cp:lastModifiedBy>Leslie Reynolds</cp:lastModifiedBy>
  <dcterms:modified xsi:type="dcterms:W3CDTF">2008-07-26T19:06:06Z</dcterms:modified>
  <cp:revision>8</cp:revision>
  <dc:subject/>
  <dc:title>Slide 1</dc:title>
</cp:coreProperties>
</file>