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1DAAB5-F942-46A6-901A-C1297ED5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4848B3-B069-474A-8DDC-B4EF8C75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by full committee or go directly to the House floor.  The latter scenario seems more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82C618-D454-4C60-B28C-1701E1A3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Supreme Court recognized the state system of insurance regulation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ul v. Virgini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in 1869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.S. v. Southeastern Underwriters Asso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ecided in 1944, the Court revisited the issue and held that the business of insurance was in fact interstate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cCarran Ferguson Act (1945), enacted in response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th-Eastern Underwri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, permits the states to act as the primary regulatory authority over the business of insurance, including the regulation or those who sell insu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877BE9-1A1A-44F7-BCCA-9C56B85C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nction between insurance producers and insurance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48C-B993-4DA4-A24F-D31E0E78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224-9640-4459-AC27-ECFD41C9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E7E-D983-4A58-9C5A-73989812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623-78CF-4D48-8CCC-644D5441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F31-AF5E-4C03-BD2F-58AF7D3B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9D17-D6F9-40C4-B950-EB7854D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6819-92B0-4920-B2D7-E022A5C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9184-DAB4-4A13-B65D-DBC7B529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3E13-DC02-4605-8BE8-DD0F649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76EC-8494-44C1-9DDE-B43DC1A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B0F-1063-4A86-A55C-5D5287AC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2AD-24B9-4FBD-B729-7D7A927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1C00-E3E4-47DC-8EFD-B73AB9B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5754-0F78-4257-80F0-8C7019A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27FA-78DB-4120-973D-F7FF0EB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F49D-64EC-4579-A2FC-4119C547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C1A-51C3-4793-9805-95641081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1D2-E36A-4891-8A29-A52FF2F3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BA4-A70A-489F-8044-0828BC0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CA0-A9B5-4A3E-9521-8957BC1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B17-D891-427A-B1E1-EF3EDB7B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9A4-C5A9-4F6D-8722-7B6FEFD8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109-A36C-4020-B08F-1CA8F34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DE5-4835-4C3E-A39F-5468BBB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417-65AF-40D3-905A-AE331ADF1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A8C-1131-4FD1-879C-3103A278432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URANCE PRODUCER LICENSING and REGIST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 Noo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uns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ssociation of Insurance Commiss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ve questions about how the issue is handled in your state, get in touch with your state Insurance Commissioner, Director or Superint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the NAI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al Association of Insurance Commissioners (NAIC) is the organization of insurance regulators from the 50 states, the District of Columbia and the five U.S. territo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R 561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d in March with broad bipartisan support and passed out of House Subcommittee in Ju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a federal entity for insurance producer licen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prohibit states from requiring non-resident insurance producers to register as foreign corpo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Insurance Regulati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al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amm Leach Bliley Act (GLBA), enacted in 1999, affirms McCarran Ferguson and the primacy of state regulation of insu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BA also established certain reciprocity and uniformity requirements that needed to be met by a majority of the states in order to avoid the preemption of state producer licensing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rocity” means that when licensing nonresident individuals and entities, the states largely defer to the home State’s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s or entities who sell, solicit or negotiate insurance (called insurance producers) are required to be licensed in the state where they are a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urance producer licenses are awarded on both a resident and non-resident ba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the GLBA reciprocity requirements, a nonresident individual or entity should not be required to do anything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y the 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usiness entities, the producer trade associations challenge a foreign corporation registration requirement as a violation of reciprocit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IC member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 states responded that they required verification of SOS registration as a prerequisite to issuance of an insurance lic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ose states that identified the requirement as one of statute, the statute is in general corporate law, not part of the insurance co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f our members have eliminated the prerequisite as a matter of process, or are pursuing the necessary statutory and/or regulatory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ose states, our members have worked with their respective Secretary of State to allow for electronic verification of status or other method of commun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Pos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is not required at all because non-resident business entity insurance producers are not doing business in the non-resident sta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should not be required because of the extensive regulation by insurance departments that the entities are subject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cludes designation of the insurance department as agent for service of proc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01:10Z</dcterms:created>
  <dc:creator>Naic</dc:creator>
  <dc:description/>
  <dc:language>en-US</dc:language>
  <cp:lastModifiedBy>Leslie Reynolds</cp:lastModifiedBy>
  <dcterms:modified xsi:type="dcterms:W3CDTF">2008-07-26T19:06:06Z</dcterms:modified>
  <cp:revision>8</cp:revision>
  <dc:subject/>
  <dc:title>Slide 1</dc:title>
</cp:coreProperties>
</file>