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1CCD-0C8F-4522-8B21-C1319E903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7B45-5BBF-4EBE-BF0B-0DF2BCBF91F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89D2-FD57-4BF1-A514-8F11201C2AB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75BE-BAFC-4E95-885E-91091173B7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4B32-DE71-474C-83D7-05A495078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106F-779B-4918-9FD8-21B99F54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4649-8CE6-45C7-9940-76BA2AC8C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51FC-A2A6-4DEB-A7B7-4DAAE8AC9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ADDF-F197-4C5A-964B-521D2A89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729A-E584-4BAA-9A5D-464F08BC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86E6-8F92-4DAA-AD26-F26B6C60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9408-3399-459D-922D-69C03AC3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171A-F493-48EC-9BBC-C682DF06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21AC-ABA0-44B7-871C-20B66EE9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C9C3-CA04-45D6-B293-31185BEE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5754-16B1-49D7-8E10-0A74D0CA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5A913-CC78-4976-910C-1934C9F1BE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ealcclearpolitics.com/" TargetMode="External"/><Relationship Id="rId2" Type="http://schemas.openxmlformats.org/officeDocument/2006/relationships/hyperlink" Target="http://www.pollsters.com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5809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ichael W. Traugot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enter for Political Studies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niversity of Michigan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National Association of Secretaries of State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Summer Conference</a:t>
            </a:r>
            <a:br>
              <a:rPr sz="1600"/>
            </a:b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Grand Rapids, Michigan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                             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July 26, 2008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-360" y="6248520"/>
            <a:ext cx="891540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12193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POLLING AND THE</a:t>
            </a:r>
            <a:endParaRPr b="0" lang="en-US" sz="4000" spc="-1" strike="noStrike" u="sng">
              <a:solidFill>
                <a:srgbClr val="ffffff"/>
              </a:solidFill>
              <a:uFillTx/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2008 PRESIDENTIAL CAMPAIGN </a:t>
            </a:r>
            <a:endParaRPr b="0" lang="en-US" sz="4000" spc="-1" strike="noStrike" u="sng">
              <a:solidFill>
                <a:srgbClr val="ffffff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e Role of Polls in the Campaig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hey measure the public pulse and contribute to “horse race” journalis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ess coverage and money flow to those who lead in the polls, and the tone of the coverage is more posi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 the pre-nomination phase, good poll showings can stimulate contributions and volunte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n a close race, poll results can stimulate turnout; if they show a big lead, they can depress i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We now know that polls have a rhythm at certain points in the campaign (post-convention bounc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Where the Race Stands Today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4" name="Content Placeholder 3" descr="Obama-McCain Late July.png"/>
          <p:cNvPicPr/>
          <p:nvPr/>
        </p:nvPicPr>
        <p:blipFill>
          <a:blip r:embed="rId1"/>
          <a:stretch/>
        </p:blipFill>
        <p:spPr>
          <a:xfrm>
            <a:off x="1676520" y="2133720"/>
            <a:ext cx="589752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High Levels of Interest 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in the Campaig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6" name="Content Placeholder 3" descr="Pew Interest in the Campaign.png"/>
          <p:cNvPicPr/>
          <p:nvPr/>
        </p:nvPicPr>
        <p:blipFill>
          <a:blip r:embed="rId1"/>
          <a:stretch/>
        </p:blipFill>
        <p:spPr>
          <a:xfrm>
            <a:off x="2895480" y="1981080"/>
            <a:ext cx="335304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The Changing Nature of Partisanship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8" name="Content Placeholder 5" descr="Pew Party ID Over Time.png"/>
          <p:cNvPicPr/>
          <p:nvPr/>
        </p:nvPicPr>
        <p:blipFill>
          <a:blip r:embed="rId1"/>
          <a:stretch/>
        </p:blipFill>
        <p:spPr>
          <a:xfrm>
            <a:off x="2514600" y="2133720"/>
            <a:ext cx="386244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More on the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Changing Nature of Partisanship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0" name="Content Placeholder 5" descr="PArty ID by Race, Republican Declines among Whites.png"/>
          <p:cNvPicPr/>
          <p:nvPr/>
        </p:nvPicPr>
        <p:blipFill>
          <a:blip r:embed="rId1"/>
          <a:stretch/>
        </p:blipFill>
        <p:spPr>
          <a:xfrm>
            <a:off x="1752480" y="2286000"/>
            <a:ext cx="541044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Polling Problems </a:t>
            </a:r>
            <a:br>
              <a:rPr sz="3200"/>
            </a:b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Appearring in the Primari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Overestimated support for Oba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(social desirabilit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Unusually high turnout among Democra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  <a:ea typeface="Arial"/>
              </a:rPr>
              <a:t>Turnout stimulated by high levels of candidate (or interest group) spen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INGS TO KEEP AN EYE ON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nclusion of cell phone–only househo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ighting issues (party identific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ikely voter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olls conducted at about the sam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SOURCES OF USEFUL INFORMATION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1"/>
              </a:rPr>
              <a:t>www.realcclearpolitics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  <a:hlinkClick r:id="rId2"/>
              </a:rPr>
              <a:t>www.pollsters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ff"/>
                </a:solidFill>
                <a:latin typeface="Arial"/>
                <a:ea typeface="Arial"/>
              </a:rPr>
              <a:t>www.pewresearch.or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0T00:38:21Z</dcterms:created>
  <dc:creator>mtrau</dc:creator>
  <dc:description/>
  <dc:language>en-US</dc:language>
  <cp:lastModifiedBy>Michael W Traugott</cp:lastModifiedBy>
  <dcterms:modified xsi:type="dcterms:W3CDTF">2008-07-25T18:33:56Z</dcterms:modified>
  <cp:revision>140</cp:revision>
  <dc:subject/>
  <dc:title>Lecture 2 - Research In, By, and For the Media: Why Do We Need These Skills?</dc:title>
</cp:coreProperties>
</file>