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03F2-0379-42A7-B5D9-5600A806B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E76C-EED7-44CA-95F3-7E6BC94420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05B6-285F-47ED-B5CF-3FAB7C7DF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16B7-70F9-4A3E-B648-3537F60DA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67D-E848-4D46-9E48-F352CDD5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F0F-A4DB-4623-A42A-A8E24031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B7F-D809-4255-93D3-7CC124B0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098-0F28-4797-8A68-4D1FECC4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763-AFCF-4A57-977E-A5B93CC6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95F-CFD3-4F98-A134-065C73E0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6E7-EA9E-4CFD-88F6-CEAE43FC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ADB-E324-4389-ADEE-83136A3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9EE-7150-4E31-9615-42F85221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42C-4E85-4D8A-A63C-CCFB869C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57E-D84B-4DAE-AD65-93C0B37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F6B-1630-4775-9E59-2B4378A8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BA4-ED05-49A3-A317-5CCE5EE42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alcclearpolitics.com/" TargetMode="External"/><Relationship Id="rId2" Type="http://schemas.openxmlformats.org/officeDocument/2006/relationships/hyperlink" Target="http://www.pollster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chael W. Traugot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ter for Political Studie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versity of Michiga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ational Association of Secretaries of State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ummer Conference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Grand Rapids, Michiga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uly 26, 200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6248520"/>
            <a:ext cx="89154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219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ING AND THE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8 PRESIDENTIAL CAMPAIGN 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Role of Polls in the Campaig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y measure the public pulse and contribute to “horse race” journa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 coverage and money flow to those who lead in the polls, and the tone of the coverage is more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 pre-nomination phase, good poll showings can stimulate contributions and volunte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a close race, poll results can stimulate turnout; if they show a big lead, they can depress 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 now know that polls have a rhythm at certain points in the campaign (post-convention bou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ere the Race Stands Toda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Content Placeholder 3" descr="Obama-McCain Late July.png"/>
          <p:cNvPicPr/>
          <p:nvPr/>
        </p:nvPicPr>
        <p:blipFill>
          <a:blip r:embed="rId1"/>
          <a:stretch/>
        </p:blipFill>
        <p:spPr>
          <a:xfrm>
            <a:off x="1676520" y="2133720"/>
            <a:ext cx="58975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igh Levels of Interest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n the Campa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ontent Placeholder 3" descr="Pew Interest in the Campaign.png"/>
          <p:cNvPicPr/>
          <p:nvPr/>
        </p:nvPicPr>
        <p:blipFill>
          <a:blip r:embed="rId1"/>
          <a:stretch/>
        </p:blipFill>
        <p:spPr>
          <a:xfrm>
            <a:off x="2895480" y="1981080"/>
            <a:ext cx="33530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Changing Nature of Partisanshi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Content Placeholder 5" descr="Pew Party ID Over Time.png"/>
          <p:cNvPicPr/>
          <p:nvPr/>
        </p:nvPicPr>
        <p:blipFill>
          <a:blip r:embed="rId1"/>
          <a:stretch/>
        </p:blipFill>
        <p:spPr>
          <a:xfrm>
            <a:off x="2514600" y="2133720"/>
            <a:ext cx="3862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ore o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hanging Nature of Partisanshi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Content Placeholder 5" descr="PArty ID by Race, Republican Declines among Whites.png"/>
          <p:cNvPicPr/>
          <p:nvPr/>
        </p:nvPicPr>
        <p:blipFill>
          <a:blip r:embed="rId1"/>
          <a:stretch/>
        </p:blipFill>
        <p:spPr>
          <a:xfrm>
            <a:off x="1752480" y="2286000"/>
            <a:ext cx="5410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olling Problem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ppearring in the Prim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verestimated support for Ob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social desira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usually high turnout among Democ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urnout stimulated by high levels of candidate (or interest group)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NGS TO KEEP AN EYE 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lusion of cell phone–only househ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ighting issues (party ident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ly voter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lls conducted at about the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OURCES OF USEFUL INFOR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realcclearpolitic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www.pollster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www.pewresearch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38:21Z</dcterms:created>
  <dc:creator>mtrau</dc:creator>
  <dc:description/>
  <dc:language>en-US</dc:language>
  <cp:lastModifiedBy>Michael W Traugott</cp:lastModifiedBy>
  <dcterms:modified xsi:type="dcterms:W3CDTF">2008-07-25T18:33:56Z</dcterms:modified>
  <cp:revision>140</cp:revision>
  <dc:subject/>
  <dc:title>Lecture 2 - Research In, By, and For the Media: Why Do We Need These Skills?</dc:title>
</cp:coreProperties>
</file>