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EFAB-2183-48DC-AACB-4E3193BA8E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A611-ACAC-42B0-8B29-1AB9F8881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86E5F-CC6C-408F-BD5D-12094F757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Not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The 2006 contract covered the following item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1. One photo ID system per county (169 tot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2. Installation and training of person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3. Production quantity upd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4. Encryption ser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5. One year system warra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6. The production of 10,000 permanent Voter ID cards. This number was carried over into future years at no expense until the 10,000 commitment was fulfil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18B0-4D72-454B-B038-77E690E236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7404-F837-4C93-BE00-40A5FEC613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2 percent of the VICs issued since the program began were issued in 2008, the presidential election year. Presidential election years historically feature the highest number of vot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</a:t>
            </a:r>
            <a:r>
              <a:rPr b="0" lang="en-US" sz="1200" spc="-1" strike="noStrike">
                <a:solidFill>
                  <a:srgbClr val="002060"/>
                </a:solidFill>
                <a:latin typeface="Calibri"/>
                <a:ea typeface="Arial"/>
              </a:rPr>
              <a:t>Voters who received a free identification card from the Department of Driver Services (DDS) are not included in these fig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54B8-E37A-45B6-9A23-960F914009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4A87-7EAE-4D9F-881D-300E648E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358B-9FE0-40B6-ABBF-CB0D1DBB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22AB-6A36-4405-AB76-41612491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1A6-6CCB-45A9-8E27-EDB4B80E5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5DCC-14BB-4D29-9921-FFE1C0AB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A4A2-64D9-423C-871D-F2077A74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3CC4-CBF2-4CB0-B4CE-1ACC1A8C3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C10-C98B-4D3D-B6CF-A533A363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AD4D-3554-465D-A3FB-0223D4264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43C4-D27A-4648-A7D6-E57999F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9E8B-BA35-460C-9C6F-938D3B0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C21-A9C4-4AB9-A5F2-0A0FE138F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0EB7-8D28-428B-91EB-A3301E6FA2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aphotoid.com/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3657600" y="3124080"/>
            <a:ext cx="1959120" cy="2210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600" y="1599840"/>
            <a:ext cx="6477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2060"/>
                </a:solidFill>
                <a:latin typeface="Georgia"/>
                <a:ea typeface="Arial"/>
              </a:rPr>
              <a:t>Voting with Photo Identif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September 2007, U.S. District Court Judge Harold Murphy dismissed a challeng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o Georgia’s photo ID law brought by Common Cause, finding that the law impose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no undue burden on the  right to vo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 January 2009, the Eleventh Circuit Court of Appeals upheld Judge Murphy’s decision, noting that, “The interest  in detecting and deterring voter fraud is a valid neutral justification that this Court cannot ignore.”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Georgia’s photo ID law has now withstood challenges in Fulton County Superi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urt, U.S. District Court, the U.S. Circuit Court of Appeals, and the Georg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upreme Co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7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70720" indent="-27072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838080" y="16002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Legal Challen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Yet another challenge is currently pending before the Georgia Supreme Court, an appeal on th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law’s constitutionality brought by the Democratic Party of Georgia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As Georgia’s Chief Elections Officer, I will fight this attempt by the Democratic Party of Georgia to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tear down the  common sense laws that protect the security of our elections process.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We have fought too hard for too many years in Georgia to guarantee and protect every citizen’s right to  vote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eorgia"/>
              </a:rPr>
              <a:t>Georgia’s photo ID law helps to ensure that no vote is cancelled out due to voter frau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1600200" y="2438280"/>
          <a:ext cx="6095880" cy="206244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eorgia Voter ID Card Syst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 Initial Contract Am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588,965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nnual Costs and Training, 2008 -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69,370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Election Personnel Online Train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15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773,335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838080" y="15998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Cos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600200" y="2438280"/>
          <a:ext cx="6095880" cy="1193760"/>
        </p:xfrm>
        <a:graphic>
          <a:graphicData uri="http://schemas.openxmlformats.org/drawingml/2006/table">
            <a:tbl>
              <a:tblPr/>
              <a:tblGrid>
                <a:gridCol w="4114800"/>
                <a:gridCol w="19810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hoto ID Outreach and Education Campaig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utreach and Education Phases 1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$841,914.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838080" y="1600200"/>
            <a:ext cx="784872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2006 the State of Georgia enacted Sena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Bill 84, which requires voters who cast their ballot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erson to present one of six forms of acceptable phot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dentificat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ix forms of acceptable photo I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 Georgia driver’s license, even if expired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ny valid state or federal government issued photo ID, including a free Voter ID Card issued by the voter’s  county registrar or Georgia Department of Driver Services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passport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employee photo ID from any branch, department, agency, or entity of the U.S. Government, Georgia, or any county, municipality, board, authority, or other entity of this state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U.S. military photo ID; or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Valid tribal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f a voter does not have a photo ID or forgets to bring their photo ID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o the polls, they can still cast a provisional ballot. 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The voter then has until the Friday after Election Day to obtain an acceptable form of photo ID, and return to their county elections office to have their vote counted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Georgia"/>
              </a:rPr>
              <a:t>No voter is ever turned away from the polls because they do not have an acceptable form of photo ID!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 Backgroun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Secretary of State’s Office implemented a website (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www.GaPhotoID.com</a:t>
            </a: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)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ducate Georgia voters about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photo ID requirement for in-person vot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Voter ID Card for voters who do not have photo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free photo ID card available at Dept. of Driver Services cen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website also contains flyers, posters and brochures about Georgia’s pho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D requirement that users can print and distribut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:\VOTER ID OUTREACH\graphics\Logo1.jpg"/>
          <p:cNvPicPr/>
          <p:nvPr/>
        </p:nvPicPr>
        <p:blipFill>
          <a:blip r:embed="rId2"/>
          <a:stretch/>
        </p:blipFill>
        <p:spPr>
          <a:xfrm>
            <a:off x="739152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C:\Documents and Settings\mcarrothers\Desktop\banner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dditionally, the Secretary of State’s Office conducted a statewid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ulti-media outreach and education campaign to inform Georgia vo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bout all facets of the photo ID requiremen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he outreach and education campaign was conducted prior to six elections between September, 2007 and the November, 2008 General Election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23888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838080" y="1600200"/>
            <a:ext cx="7848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72428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990720" y="2209680"/>
          <a:ext cx="6095880" cy="295596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Media Ty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Nu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Direct Mail and Utility Bill Inser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5,009,7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ackages of Photo ID Materials to NGOs (Chambers of Commerce, Churches, Librari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633 packages; over 57,000 pie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utomated  Reminder Phone Cal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8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4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Vide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,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4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adio PS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ver 60, 6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ress rele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838080" y="1600200"/>
            <a:ext cx="784872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Outreach and Education Highlight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5,720 radio PSAs featuring then-Secretary of State Karen Handel and Atlanta Falcons player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ncreased awareness of the photo ID requirement, voter registration deadlines, and early voting optio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Atlanta Falcons home games featured end zone-to-end zone LED banners directing fans to visit the Secretary of State’s website for more information on photo ID, voter registration and early vot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adio ads were purchased statewide on Clear Channel stations for airing during news casts, traffic reports, Atlanta Braves games, and on Clear Channel websit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400 ads were placed inside Atlanta’s MARTA buses to remind riders of photo I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7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838080" y="15998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eorgia"/>
                <a:ea typeface="Arial"/>
              </a:rPr>
              <a:t>Photo Identification: Voter Identification C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H:\VOTER ID OUTREACH\graphics\Logo1.jpg"/>
          <p:cNvPicPr/>
          <p:nvPr/>
        </p:nvPicPr>
        <p:blipFill>
          <a:blip r:embed="rId1"/>
          <a:stretch/>
        </p:blipFill>
        <p:spPr>
          <a:xfrm>
            <a:off x="7315200" y="4800600"/>
            <a:ext cx="1538280" cy="1735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C:\Documents and Settings\mcarrothers\Desktop\banner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92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1143000" y="2209680"/>
          <a:ext cx="609588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ards Issu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1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4,2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2,3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47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,6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Grand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3,8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14:45:13Z</dcterms:created>
  <dc:creator>mcarrothers</dc:creator>
  <dc:description/>
  <dc:language>en-US</dc:language>
  <cp:lastModifiedBy>John</cp:lastModifiedBy>
  <dcterms:modified xsi:type="dcterms:W3CDTF">2011-02-09T18:59:25Z</dcterms:modified>
  <cp:revision>86</cp:revision>
  <dc:subject/>
  <dc:title>Slide 1</dc:title>
</cp:coreProperties>
</file>