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6B055-49CC-4341-8366-304C442505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B7142-F1CD-4BBC-AD36-00A6CF3C85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1FAC0-CCF1-4933-9C2B-C30877259D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orgia"/>
              </a:rPr>
              <a:t>Not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The 2006 contract covered the following ite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1. One photo ID system per county (169 tot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2. Installation and training of personne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3. Production quantity updat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4. Encryption serv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5. One year system warran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6. The production of 10,000 permanent Voter ID cards. This number was carried over into future years at no expense until the 10,000 commitment was fulfill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B538E-606D-4D9C-96C9-02F7DEBE1A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0B550-528A-41D5-9C09-5437516F59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2 percent of the VICs issued since the program began were issued in 2008, the presidential election year. Presidential election years historically feature the highest number of vot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: </a:t>
            </a:r>
            <a:r>
              <a:rPr b="0" lang="en-US" sz="1200" spc="-1" strike="noStrike">
                <a:solidFill>
                  <a:srgbClr val="002060"/>
                </a:solidFill>
                <a:latin typeface="Calibri"/>
                <a:ea typeface="Arial"/>
              </a:rPr>
              <a:t>Voters who received a free identification card from the Department of Driver Services (DDS) are not included in these figu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106E0-4A8D-44F2-BD70-EF2DCC0982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5D96-77C2-47D0-8DDE-52B5467E4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56E4-4E4B-4698-9CDA-7F69971EC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7ED4-7EA0-47E4-B655-0E65C75EA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2D96-6076-45D5-8DC8-973719D95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DB5D-E4BD-4509-BAB9-2819A9793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1263-E57F-45D1-92CE-AA2630D87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14FA-362A-498D-B66A-8627BC926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7F3A-EEDA-40F5-8A25-9E65BDFBA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D6AA-F883-4C62-9DBF-855B2B8D8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D26D-1BE4-4C42-9E85-C8EE7FCB0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69F0-3BE8-444A-8086-6AEA8E767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DEC4-89F1-4B93-A669-00CD4D4E7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0B708-D3F4-4168-9D7E-C7E92FEFFD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aphotoid.com/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:\VOTER ID OUTREACH\graphics\Logo1.jpg"/>
          <p:cNvPicPr/>
          <p:nvPr/>
        </p:nvPicPr>
        <p:blipFill>
          <a:blip r:embed="rId1"/>
          <a:stretch/>
        </p:blipFill>
        <p:spPr>
          <a:xfrm>
            <a:off x="3657600" y="3124080"/>
            <a:ext cx="1959120" cy="22100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371600" y="159984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2060"/>
                </a:solidFill>
                <a:latin typeface="Georgia"/>
                <a:ea typeface="Arial"/>
              </a:rPr>
              <a:t>Voting with Photo Ident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Documents and Settings\mcarrothers\Desktop\banner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923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838080" y="16002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Georgia"/>
                <a:ea typeface="Arial"/>
              </a:rPr>
              <a:t>Photo Identification: Legal Challen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n September 2007, U.S. District Court Judge Harold Murphy dismissed a challeng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to Georgia’s photo ID law brought by Common Cause, finding that the law imposed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no undue burden on the  right to vot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n January 2009, the Eleventh Circuit Court of Appeals upheld Judge Murphy’s decision, noting that, “The interest  in detecting and deterring voter fraud is a valid neutral justification that this Court cannot ignore.”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Georgia’s photo ID law has now withstood challenges in Fulton County Superior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Court, U.S. District Court, the U.S. Circuit Court of Appeals, and the Georgi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upreme Court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7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H:\VOTER ID OUTREACH\graphics\Logo1.jpg"/>
          <p:cNvPicPr/>
          <p:nvPr/>
        </p:nvPicPr>
        <p:blipFill>
          <a:blip r:embed="rId1"/>
          <a:stretch/>
        </p:blipFill>
        <p:spPr>
          <a:xfrm>
            <a:off x="7315200" y="4800600"/>
            <a:ext cx="1538280" cy="1735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C:\Documents and Settings\mcarrothers\Desktop\banner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923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838080" y="16002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Georgia"/>
                <a:ea typeface="Arial"/>
              </a:rPr>
              <a:t>Photo Identification: Legal Challen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Yet another challenge is currently pending before the Georgia Supreme Court, an appeal on th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law’s constitutionality brought by the Democratic Party of Georgia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As Georgia’s Chief Elections Officer, I will fight this attempt by the Democratic Party of Georgia to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tear down the  common sense laws that protect the security of our elections process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We have fought too hard for too many years in Georgia to guarantee and protect every citizen’s right to  vote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Georgia’s photo ID law helps to ensure that no vote is cancelled out due to voter fraud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H:\VOTER ID OUTREACH\graphics\Logo1.jpg"/>
          <p:cNvPicPr/>
          <p:nvPr/>
        </p:nvPicPr>
        <p:blipFill>
          <a:blip r:embed="rId1"/>
          <a:stretch/>
        </p:blipFill>
        <p:spPr>
          <a:xfrm>
            <a:off x="7315200" y="4800600"/>
            <a:ext cx="1538280" cy="17352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C:\Documents and Settings\mcarrothers\Desktop\banner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923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838080" y="1599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Georgia"/>
                <a:ea typeface="Arial"/>
              </a:rPr>
              <a:t>Photo Identification: Cos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:\VOTER ID OUTREACH\graphics\Logo1.jpg"/>
          <p:cNvPicPr/>
          <p:nvPr/>
        </p:nvPicPr>
        <p:blipFill>
          <a:blip r:embed="rId1"/>
          <a:stretch/>
        </p:blipFill>
        <p:spPr>
          <a:xfrm>
            <a:off x="7315200" y="4800600"/>
            <a:ext cx="1538280" cy="1735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C:\Documents and Settings\mcarrothers\Desktop\banner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923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" name=""/>
          <p:cNvGraphicFramePr/>
          <p:nvPr/>
        </p:nvGraphicFramePr>
        <p:xfrm>
          <a:off x="1600200" y="2438280"/>
          <a:ext cx="6095880" cy="2062440"/>
        </p:xfrm>
        <a:graphic>
          <a:graphicData uri="http://schemas.openxmlformats.org/drawingml/2006/table">
            <a:tbl>
              <a:tblPr/>
              <a:tblGrid>
                <a:gridCol w="4114800"/>
                <a:gridCol w="198108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Georgia Voter ID Card Sys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006 Initial Contract Am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$588,965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Annual Costs and Training, 2008 - 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$169,370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Election Personnel Online Trai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$15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Grand 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$773,335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838080" y="1599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Georgia"/>
                <a:ea typeface="Arial"/>
              </a:rPr>
              <a:t>Photo Identification: Cos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H:\VOTER ID OUTREACH\graphics\Logo1.jpg"/>
          <p:cNvPicPr/>
          <p:nvPr/>
        </p:nvPicPr>
        <p:blipFill>
          <a:blip r:embed="rId1"/>
          <a:stretch/>
        </p:blipFill>
        <p:spPr>
          <a:xfrm>
            <a:off x="7315200" y="4800600"/>
            <a:ext cx="1538280" cy="1735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C:\Documents and Settings\mcarrothers\Desktop\banner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923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1600200" y="2438280"/>
          <a:ext cx="6095880" cy="1193760"/>
        </p:xfrm>
        <a:graphic>
          <a:graphicData uri="http://schemas.openxmlformats.org/drawingml/2006/table">
            <a:tbl>
              <a:tblPr/>
              <a:tblGrid>
                <a:gridCol w="4114800"/>
                <a:gridCol w="198108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Photo ID Outreach and Education Campaig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Outreach and Education Phases 1-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$841,914.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838080" y="1600200"/>
            <a:ext cx="784872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Georgia"/>
                <a:ea typeface="Arial"/>
              </a:rPr>
              <a:t>Photo Identification 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n 2006 the State of Georgia enacted Senat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Bill 84, which requires voters who cast their ballot 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erson to present one of six forms of acceptable pho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dentificatio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:\VOTER ID OUTREACH\graphics\Logo1.jpg"/>
          <p:cNvPicPr/>
          <p:nvPr/>
        </p:nvPicPr>
        <p:blipFill>
          <a:blip r:embed="rId1"/>
          <a:stretch/>
        </p:blipFill>
        <p:spPr>
          <a:xfrm>
            <a:off x="7315200" y="4724280"/>
            <a:ext cx="1538280" cy="1735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C:\Documents and Settings\mcarrothers\Desktop\banner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923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838080" y="1600200"/>
            <a:ext cx="78487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Georgia"/>
                <a:ea typeface="Arial"/>
              </a:rPr>
              <a:t>Photo Identification Backgrou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The six forms of acceptable photo I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A Georgia driver’s license, even if expired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Any valid state or federal government issued photo ID, including a free Voter ID Card issued by the voter’s  county registrar or Georgia Department of Driver Services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Valid U.S. passport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Valid employee photo ID from any branch, department, agency, or entity of the U.S. Government, Georgia, or any county, municipality, board, authority, or other entity of this state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Valid U.S. military photo ID; or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Valid tribal photo ID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H:\VOTER ID OUTREACH\graphics\Logo1.jpg"/>
          <p:cNvPicPr/>
          <p:nvPr/>
        </p:nvPicPr>
        <p:blipFill>
          <a:blip r:embed="rId1"/>
          <a:stretch/>
        </p:blipFill>
        <p:spPr>
          <a:xfrm>
            <a:off x="7315200" y="4800600"/>
            <a:ext cx="1538280" cy="1735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Documents and Settings\mcarrothers\Desktop\banner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923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838080" y="1600200"/>
            <a:ext cx="78487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2060"/>
                </a:solidFill>
                <a:latin typeface="Georgia"/>
                <a:ea typeface="Arial"/>
              </a:rPr>
              <a:t>Photo Identification Backgro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If a voter does not have a photo ID or forgets to bring their photo I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to the polls, they can still cast a provisional ballot. </a:t>
            </a: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The voter then has until the Friday after Election Day to obtain an acceptable form of photo ID, and return to their county elections office to have their vote counted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Georgia"/>
              </a:rPr>
              <a:t>No voter is ever turned away from the polls because they do not have an acceptable form of photo ID!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H:\VOTER ID OUTREACH\graphics\Logo1.jpg"/>
          <p:cNvPicPr/>
          <p:nvPr/>
        </p:nvPicPr>
        <p:blipFill>
          <a:blip r:embed="rId1"/>
          <a:stretch/>
        </p:blipFill>
        <p:spPr>
          <a:xfrm>
            <a:off x="7315200" y="4800600"/>
            <a:ext cx="1538280" cy="1735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C:\Documents and Settings\mcarrothers\Desktop\banner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923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838080" y="1600200"/>
            <a:ext cx="78487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Georgia"/>
                <a:ea typeface="Arial"/>
              </a:rPr>
              <a:t>Photo Identification Background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The Secretary of State’s Office implemented a website (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Georgia"/>
                <a:hlinkClick r:id="rId1"/>
              </a:rPr>
              <a:t>www.GaPhotoID.com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) t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educate Georgia voters about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The photo ID requirement for in-person vot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The free Voter ID Card for voters who do not have photo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The free photo ID card available at Dept. of Driver Services cente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The website also contains flyers, posters and brochures about Georgia’s phot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D requirement that users can print and distribute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:\VOTER ID OUTREACH\graphics\Logo1.jpg"/>
          <p:cNvPicPr/>
          <p:nvPr/>
        </p:nvPicPr>
        <p:blipFill>
          <a:blip r:embed="rId2"/>
          <a:stretch/>
        </p:blipFill>
        <p:spPr>
          <a:xfrm>
            <a:off x="7391520" y="4800600"/>
            <a:ext cx="1538280" cy="1735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Documents and Settings\mcarrothers\Desktop\banner3.png"/>
          <p:cNvPicPr/>
          <p:nvPr/>
        </p:nvPicPr>
        <p:blipFill>
          <a:blip r:embed="rId3"/>
          <a:stretch/>
        </p:blipFill>
        <p:spPr>
          <a:xfrm>
            <a:off x="0" y="0"/>
            <a:ext cx="9144000" cy="923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838080" y="1600200"/>
            <a:ext cx="78487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Georgia"/>
                <a:ea typeface="Arial"/>
              </a:rPr>
              <a:t>Photo Identification: Outreach and Educati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Additionally, the Secretary of State’s Office conducted a statewide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multi-media outreach and education campaign to inform Georgia vote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about all facets of the photo ID requirement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The outreach and education campaign was conducted prior to six elections between September, 2007 and the November, 2008 General Election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H:\VOTER ID OUTREACH\graphics\Logo1.jpg"/>
          <p:cNvPicPr/>
          <p:nvPr/>
        </p:nvPicPr>
        <p:blipFill>
          <a:blip r:embed="rId1"/>
          <a:stretch/>
        </p:blipFill>
        <p:spPr>
          <a:xfrm>
            <a:off x="7238880" y="4800600"/>
            <a:ext cx="1538280" cy="1735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C:\Documents and Settings\mcarrothers\Desktop\banner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923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838080" y="1600200"/>
            <a:ext cx="78487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  <a:ea typeface="Arial"/>
              </a:rPr>
              <a:t>Photo Identification: Outreach and Education</a:t>
            </a:r>
            <a:br>
              <a:rPr sz="22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H:\VOTER ID OUTREACH\graphics\Logo1.jpg"/>
          <p:cNvPicPr/>
          <p:nvPr/>
        </p:nvPicPr>
        <p:blipFill>
          <a:blip r:embed="rId1"/>
          <a:stretch/>
        </p:blipFill>
        <p:spPr>
          <a:xfrm>
            <a:off x="7315200" y="4724280"/>
            <a:ext cx="1538280" cy="1735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Documents and Settings\mcarrothers\Desktop\banner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923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" name=""/>
          <p:cNvGraphicFramePr/>
          <p:nvPr/>
        </p:nvGraphicFramePr>
        <p:xfrm>
          <a:off x="990720" y="2209680"/>
          <a:ext cx="6095880" cy="295596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34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Media Ty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Numb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4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Direct Mail and Utility Bill Inser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Over 5,009,700 pie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Packages of Photo ID Materials to NGOs (Chambers of Commerce, Churches, Librari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633 packages; over 57,000 pie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Automated  Reminder Phone Cal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8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Video PS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,2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Radio PS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Over 60, 6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Press relea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838080" y="1600200"/>
            <a:ext cx="78487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Georgia"/>
                <a:ea typeface="Arial"/>
              </a:rPr>
              <a:t>Photo Identification: Outreach and Education Highlight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5,720 radio PSAs featuring then-Secretary of State Karen Handel and Atlanta Falcons player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ncreased awareness of the photo ID requirement, voter registration deadlines, and early voting option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Atlanta Falcons home games featured end zone-to-end zone LED banners directing fans to visit the Secretary of State’s website for more information on photo ID, voter registration and early voting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adio ads were purchased statewide on Clear Channel stations for airing during news casts, traffic reports, Atlanta Braves games, and on Clear Channel website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400 ads were placed inside Atlanta’s MARTA buses to remind riders of photo ID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"/>
            </a:b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70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H:\VOTER ID OUTREACH\graphics\Logo1.jpg"/>
          <p:cNvPicPr/>
          <p:nvPr/>
        </p:nvPicPr>
        <p:blipFill>
          <a:blip r:embed="rId1"/>
          <a:stretch/>
        </p:blipFill>
        <p:spPr>
          <a:xfrm>
            <a:off x="7315200" y="4800600"/>
            <a:ext cx="1538280" cy="17352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Documents and Settings\mcarrothers\Desktop\banner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923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838080" y="1599840"/>
            <a:ext cx="78487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Georgia"/>
                <a:ea typeface="Arial"/>
              </a:rPr>
              <a:t>Photo Identification: Voter Identification Car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H:\VOTER ID OUTREACH\graphics\Logo1.jpg"/>
          <p:cNvPicPr/>
          <p:nvPr/>
        </p:nvPicPr>
        <p:blipFill>
          <a:blip r:embed="rId1"/>
          <a:stretch/>
        </p:blipFill>
        <p:spPr>
          <a:xfrm>
            <a:off x="7315200" y="4800600"/>
            <a:ext cx="1538280" cy="1735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C:\Documents and Settings\mcarrothers\Desktop\banner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923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1143000" y="2209680"/>
          <a:ext cx="6095880" cy="25956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ards Issue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,1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4,2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2,3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,4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,6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Grand 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3,8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8T14:45:13Z</dcterms:created>
  <dc:creator>mcarrothers</dc:creator>
  <dc:description/>
  <dc:language>en-US</dc:language>
  <cp:lastModifiedBy>John</cp:lastModifiedBy>
  <dcterms:modified xsi:type="dcterms:W3CDTF">2011-02-09T18:59:25Z</dcterms:modified>
  <cp:revision>86</cp:revision>
  <dc:subject/>
  <dc:title>Slide 1</dc:title>
</cp:coreProperties>
</file>