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0A4A-4366-4253-86C9-B6985C32F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042E-904B-4BCD-AC0C-183B3E7CE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6A60-6984-4B59-B2AC-97EA95E48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he 2006 contract covered the following it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1. One photo ID system per county (169 tot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2. Installation and training of personn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3. Production quantity upd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4. Encryption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5. One year system warra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6. The production of 10,000 permanent Voter ID cards. This number was carried over into future years at no expense until the 10,000 commitment was fulfi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E656-F98F-40CA-91EC-B80187AA0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EFCE-3179-4950-9B41-774AAEE2B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2 percent of the VICs issued since the program began were issued in 2008, the presidential election year. Presidential election years historically feature the highest number of v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  <a:ea typeface="Arial"/>
              </a:rPr>
              <a:t>Voters who received a free identification card from the Department of Driver Services (DDS) are not included in these fig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3897-7A05-4847-81BE-CD733BDA5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C5B-0EEF-472D-B48B-338B6BF5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C04-BB9F-4720-92C2-449E63F3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E68-FCD6-43AE-8D6A-7024582C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1BE-065B-40F7-A8A6-C6FA573D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9EC-05C1-4CE1-A6CF-D1B3BC8F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30B-8223-456A-AA06-9FA62144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94A-0429-4DBF-A662-7DF4B359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CDF-AE3D-4BA4-9ABF-813BC234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D31-7A94-4FDD-A3D2-B1173C66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68E-5603-40F1-809F-E12E5395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C72-1BF2-40B0-8A3B-6B56D2A3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308-7E6E-4AFA-AF2D-91204A6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C5C9-4DF9-4126-84C7-76A497906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hotoid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3657600" y="3124080"/>
            <a:ext cx="1959120" cy="2210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Georgia"/>
                <a:ea typeface="Arial"/>
              </a:rPr>
              <a:t>Voting with Photo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16002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Legal Challe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 September 2007, U.S. District Court Judge Harold Murphy dismissed a challen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o Georgia’s photo ID law brought by Common Cause, finding that the law impose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o undue burden on the  right to vo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 January 2009, the Eleventh Circuit Court of Appeals upheld Judge Murphy’s decision, noting that, “The interest  in detecting and deterring voter fraud is a valid neutral justification that this Court cannot ignore.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Georgia’s photo ID law has now withstood challenges in Fulton County Superi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urt, U.S. District Court, the U.S. Circuit Court of Appeals, and the Geor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upreme Cou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7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38080" y="16002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Legal Challe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Yet another challenge is currently pending before the Georgia Supreme Court, an appeal on 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law’s constitutionality brought by the Democratic Party of Georgi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s Georgia’s Chief Elections Officer, I will fight this attempt by the Democratic Party of Georgia 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tear down the  common sense laws that protect the security of our elections proces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e have fought too hard for too many years in Georgia to guarantee and protect every citizen’s right to  vot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Georgia’s photo ID law helps to ensure that no vote is cancelled out due to voter frau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3808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600200" y="2438280"/>
          <a:ext cx="6095880" cy="206244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eorgia Voter ID Card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6 Initial Contract Am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588,965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nnual Costs and Training, 2008 -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69,37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lection Personnel Online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773,33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600200" y="2438280"/>
          <a:ext cx="6095880" cy="119376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hoto ID Outreach and Education Campa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utreach and Education Phases 1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841,914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16002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2006 the State of Georgia enacted Sen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ill 84, which requires voters who cast their ballot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rson to present one of six forms of acceptable pho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dentifi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72428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six forms of acceptable photo I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 Georgia driver’s license, even if expired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ny valid state or federal government issued photo ID, including a free Voter ID Card issued by the voter’s  county registrar or Georgia Department of Driver Service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U.S. passport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employee photo ID from any branch, department, agency, or entity of the U.S. Government, Georgia, or any county, municipality, board, authority, or other entity of this stat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U.S. military photo ID; 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tribal photo I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f a voter does not have a photo ID or forgets to bring their photo 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o the polls, they can still cast a provisional ballot.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 voter then has until the Friday after Election Day to obtain an acceptable form of photo ID, and return to their county elections office to have their vote counte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Georgia"/>
              </a:rPr>
              <a:t>No voter is ever turned away from the polls because they do not have an acceptable form of photo ID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Secretary of State’s Office implemented a website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www.GaPhotoID.com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)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ducate Georgia voters about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photo ID requirement for in-person vo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free Voter ID Card for voters who do not have photo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free photo ID card available at Dept. of Driver Services cen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website also contains flyers, posters and brochures about Georgia’s pho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D requirement that users can print and distribut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:\VOTER ID OUTREACH\graphics\Logo1.jpg"/>
          <p:cNvPicPr/>
          <p:nvPr/>
        </p:nvPicPr>
        <p:blipFill>
          <a:blip r:embed="rId2"/>
          <a:stretch/>
        </p:blipFill>
        <p:spPr>
          <a:xfrm>
            <a:off x="739152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mcarrothers\Desktop\banner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dditionally, the Secretary of State’s Office conducted a statewid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ulti-media outreach and education campaign to inform Georgia vo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bout all facets of the photo ID requir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outreach and education campaign was conducted prior to six elections between September, 2007 and the November, 2008 General Electio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23888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8080" y="16002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72428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990720" y="2209680"/>
          <a:ext cx="6095880" cy="2955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dia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rect Mail and Utility Bill Inse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ver 5,009,700 pie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ckages of Photo ID Materials to NGOs (Chambers of Commerce, Churches, Librar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33 packages; over 57,000 pie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utomated  Reminder Phone C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ideo P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adio P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ver 60, 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ess rele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 Highlight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5,720 radio PSAs featuring then-Secretary of State Karen Handel and Atlanta Falcons pla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creased awareness of the photo ID requirement, voter registration deadlines, and early voting op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tlanta Falcons home games featured end zone-to-end zone LED banners directing fans to visit the Secretary of State’s website for more information on photo ID, voter registration and early voting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adio ads were purchased statewide on Clear Channel stations for airing during news casts, traffic reports, Atlanta Braves games, and on Clear Channel websit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400 ads were placed inside Atlanta’s MARTA buses to remind riders of photo I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8080" y="15998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Voter Identification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143000" y="2209680"/>
          <a:ext cx="6095880" cy="2595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rds Issu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,3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,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4:45:13Z</dcterms:created>
  <dc:creator>mcarrothers</dc:creator>
  <dc:description/>
  <dc:language>en-US</dc:language>
  <cp:lastModifiedBy>John</cp:lastModifiedBy>
  <dcterms:modified xsi:type="dcterms:W3CDTF">2011-02-09T18:59:25Z</dcterms:modified>
  <cp:revision>86</cp:revision>
  <dc:subject/>
  <dc:title>Slide 1</dc:title>
</cp:coreProperties>
</file>